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B1BFD-0181-4F3E-BDD1-FC67098B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B60C-C726-4863-AC82-C36F64CA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082AE-B923-4D4B-8A1E-6EF99D5E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975E9-D71F-4076-AB83-F25950F6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883D-2AD7-4068-8930-09B56771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4EAA-D37E-4742-A939-B3A88D45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B5A2-9426-498D-AB9C-12053D53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8594-FC45-429F-8942-95876191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C420-DBC9-4D35-851E-22FA94F8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8125-0721-4B55-84AA-0575C881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DFC7-4BC6-45E3-A8DD-589871F5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7D4D-65D5-4946-BA34-0E20ECA0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F349-C88E-40B6-8BB6-584AD34B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31D7-56F1-437E-9B0E-A29A0D8F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27DA-5C2A-4591-9DDE-33DBF070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AA3B-C011-4F61-B601-BD6168DF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911B-0F8B-4688-ACB1-F34C01B2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01202-968A-4CD2-860E-EE570AA9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780E-67EF-4D32-AB2F-8F374AB5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7504A-11AD-4432-9594-E5157F66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F111-327B-4274-B139-9C30B591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ABD0-8011-4222-BFB1-BC32233A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A5CE-0B12-4418-891B-B2BA12E4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476A-F814-4755-B31E-223E83B9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83B7-C5BD-4A9C-A6FB-3D3588019B3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62FB-C704-4768-811A-1F10719FF4C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691640"/>
            <a:ext cx="1113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07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6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да направя за Исус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любовта Му къмто мен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жертва стана на Голго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да съм аз навек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й туй ще сторя за Исуса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го ще любя цял живо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вси за Него аз ще разказв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всички е най-скъп имо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Ще изповядам, че съм изгуб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без надежда грешник клет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искам прошка за греха с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ме направи Той и свя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52676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й туй ще сторя за Исуса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го ще любя цял живо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вси за Него аз ще разказв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всички е най-скъп имо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 Светата Библия ще взем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я изследвам ден след ден, Исуса всякога ще хваля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моя грях освободен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й туй ще сторя за Исуса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го ще любя цял живо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вси за Него аз ще разказв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всички е най-скъп имо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5-27T16:25:55Z</dcterms:modified>
  <cp:revision>54</cp:revision>
  <dc:subject/>
  <dc:title>Slide 1</dc:title>
</cp:coreProperties>
</file>